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EF4-D178-4E44-98AD-54C373E5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996-F39E-490C-84B6-C8F9CE39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94B-9FA8-458B-883F-173DBA3A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B7D-E7BF-4324-A482-9CC6DE2B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C27-7193-4D0E-B886-5143C3E7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059-4815-4039-B0B2-7C88E89E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BDE-27C0-4ED0-9FFB-6771F38B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77E-B302-4490-A476-2277D55E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FA9-1714-438A-9280-7129E3FD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F70-535A-423E-9504-600A7C6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C04-2EDB-46D9-B5C7-C42E01A8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BD1-F5C7-451E-8CF1-5AB8B28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C03-9AE7-4685-A3A1-2209DB47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zte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c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By Victoria Green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5.4 Explain why the Aztec and Inca civilizations declined in the 16th centu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A. the encounters between Cortez and Montez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B. the encounters between Pizarro and the In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C. the goals of the Spanish conquista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D. the effects of European diseases, particularly smallpox, throughout the Western hemisphere</a:t>
            </a: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8560" y="1346040"/>
            <a:ext cx="3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Aztecs sometime practiced </a:t>
            </a:r>
            <a:r>
              <a:rPr b="1" i="1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uma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sacrif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Aztec people were polytheistic.( they believed in many g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Aztec people lived in N. America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yramidOfTheMoonFromPyramidOfTheSun.jpg"/>
          <p:cNvPicPr/>
          <p:nvPr/>
        </p:nvPicPr>
        <p:blipFill>
          <a:blip r:embed="rId1"/>
          <a:stretch/>
        </p:blipFill>
        <p:spPr>
          <a:xfrm>
            <a:off x="7311960" y="0"/>
            <a:ext cx="183204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1-Aztec_Empire_Map.png"/>
          <p:cNvPicPr/>
          <p:nvPr/>
        </p:nvPicPr>
        <p:blipFill>
          <a:blip r:embed="rId2"/>
          <a:stretch/>
        </p:blipFill>
        <p:spPr>
          <a:xfrm>
            <a:off x="0" y="29718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as were polytheistic like the Azt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yas had slaves that some time gained there freed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Mayas region did not contain much gold it wasn’t valuable to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4572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cas lived 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. America  along the west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apital is Cuz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Incas has no written language, but had spoke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y h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izarro took over the Incas because they had a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ivil war is having a fight with your own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96048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2550600">
            <a:off x="6857640" y="380880"/>
            <a:ext cx="1679400" cy="221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rtez was not a g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he Aztecs thought he was a g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He traveled with 500 men and 16 horses to conquer  the Aztecs capital Tenochtitlan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the year 151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Cortez got the other tribes to help him so it made it easer to take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izarro was a Spanish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nquis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Pizarro traveled with 180 men and 27 horses to conquer the Incas civi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 Incas civilization covered around 20miles on the west cost of S.Amarica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hey were 2hrs behind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did the Spanish explorers and conquistadors change Central and South America forever? (Where do we see the lasting effect of these conquistadors even in 2011?)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19:42Z</dcterms:created>
  <dc:creator>jklib</dc:creator>
  <dc:description/>
  <dc:language>en-US</dc:language>
  <cp:lastModifiedBy>jklib</cp:lastModifiedBy>
  <dcterms:modified xsi:type="dcterms:W3CDTF">2011-11-30T17:35:28Z</dcterms:modified>
  <cp:revision>6</cp:revision>
  <dc:subject/>
  <dc:title>Slide 1</dc:title>
</cp:coreProperties>
</file>